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A23-6E59-403A-B596-8E420A70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33F-96F4-434A-848B-56F5E9DA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D43-3D2A-40AD-9554-24900D68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73B-ADD7-4CD4-B957-4C0DBA8B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3733-0441-4AA5-9EB3-6E0820C9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3899-0DA9-4BB1-954B-35F59D41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8A31-54B2-4177-9306-F694DCA4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C19B-CB5C-427A-A1DB-3029AC82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43ED-1148-4CD0-852F-E9FB818C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9802-2356-4EF6-B6A6-EE42643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4039-6580-47A4-985F-3403433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C83-ADDB-452A-A65C-3AD29ACC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98C3-0FAE-4552-99B6-C71D22D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0DF9-4440-4A98-BCE6-DAD2C07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4E5C-26EF-404E-B521-260B9B25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90A4-6D49-4F84-A4A8-A70A6D10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21EE-8B13-4777-BCD1-D0BE58C0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E412-845A-446D-9ED4-36FE743E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E91B-F2B9-42CF-817B-5A2A1AD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BC8E-18BA-46C3-8C59-52BA40FA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A697-FEFF-4945-BEEA-E3EF83B1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2AF4-AE55-47F9-936C-07A74CE8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CB2-A2A1-46BA-B99D-A36AAFC7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D4FB-3B17-4952-8DEB-9BF96C6C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DEC6-4F24-41F0-B5F8-EAF8F7FD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60371-5B11-43C3-9519-0C6ADBC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A155-B3D7-44AD-98B0-44154DD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E933-3B03-4CD4-BC22-22E2531A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C27C-E2A2-4CFD-9955-BEEF2E6E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4C9E9-4ECB-4C31-8B3E-76C016D4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F3ED-CD77-4181-856F-2B2FA668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3B4F-2273-44CC-B3C1-F60F7B0F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B9FA-8C42-4277-BFEA-EE530BC8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450-2C3E-4013-AF51-ED0D6C61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2A9C5-CBB0-4BC9-A49B-12B4BC95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C975-7250-4893-802F-F25D199C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B5D69-C6F4-44A4-B05C-3AAAC7D8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5634-C697-4E6B-BD1F-6A5DE00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2F44-8DE2-4A28-849E-AE1E0AFE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2C53D-A6B0-497C-A08E-645ADAB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6245-18C2-42E7-B1AC-1CEEDE9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8B39-9DCE-4897-B763-27CD0140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571B-C341-4149-93F3-2BD980EC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7DDF1-6370-487E-936E-626EDE7D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17D-A3E2-441D-9CA5-E9DB92A4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9B864-90B7-406D-8766-2CB37048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B7F75-2FBB-42F0-B3F8-C30AC609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94D67-7C7C-45C0-B78F-73048B1E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CFDA4-43B0-461F-999B-6ECB36F8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EF266-1736-4C2B-B5F5-E6B894F3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C17E8-6DC6-4A2F-A908-31B7BD1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BE5E-7D3A-4D04-B516-E5018ECA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636E0-2EEE-458D-97E3-205BB8D6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C6190-E6D6-44D2-A25B-61C63A84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120C-4C7D-44C6-854B-FC6F6089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C2C-B592-45F6-8EB8-B3F484C0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697D-8968-4C41-BB87-4504A230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C37-D92E-4BB7-B77E-5A1EABC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12C-D34B-475D-A85B-421B039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53D-F36B-4CBC-B1EC-875AE8FB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7FE0-7583-4A6B-8367-91B78149F51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B93A-C278-431C-9CEE-6C66BE7F20A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2439-FF57-44D0-92D9-E85A4D6E7AC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D93E-1EF5-42E8-8E30-A4D42507B84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BF60-1A4A-45E2-81D4-83952983F7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yhouse.ru/img/2/bespor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vplicei.ru/gallery2/main.php?g2_view=core.DownloadItem&amp;g2_itemId=3213&amp;g2_serialNumber=2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okdk.com/super/300/50/9785818310350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lonka.ru/uploads/posts/1159118277_image001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284720" y="2997360"/>
            <a:ext cx="447336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Классный руководитель 4 «Г» класс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Раимова Насима Тагирзянов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552240" y="981000"/>
            <a:ext cx="8591400" cy="1905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дительское собра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ой ребенок становится трудным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40328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042920" y="136440"/>
            <a:ext cx="65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Кучуковская СОШ Шаршадинская Н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119040" y="61848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января  201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468360" y="3051000"/>
            <a:ext cx="3959280" cy="296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3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96464"/>
                </a:solidFill>
                <a:latin typeface="Calibri"/>
              </a:rPr>
              <a:t>         </a:t>
            </a:r>
            <a:r>
              <a:rPr b="1" i="1" lang="ru-RU" sz="2400" spc="-1" strike="noStrike">
                <a:solidFill>
                  <a:srgbClr val="696464"/>
                </a:solidFill>
                <a:latin typeface="Calibri"/>
              </a:rPr>
              <a:t>Мотивы детской неуправляемости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0040" y="1571400"/>
            <a:ext cx="850104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.Неверие в свой успех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.Причинами неверия в собственный успех могут стать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: низкие школьные результаты вне зависимых от приложенных ребенком усилий, низкая самооценка, поощряемая педагогами и семьей, плохие взаимоотношения в классе со сверстниками, отсутствие возможности проявить себя, свои способности и умения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5.Жажда мщения окружающему миру, взрослым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6.   Ребенок мстит за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еверие в его способности и возможности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сравнение не в его пользу со старшими или младшими братьями и сестрами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за унижение друг друга в кругу семьи, за потерю одного из родителя в результате развода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за появление в доме нового члена семьи, который становится более значимым, чем сам ребенок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за несправедливость по отношению к себе и невыполненные взрослыми обещания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за родительскую ложь и хамелеонство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Картинка 4 из 2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5489640"/>
            <a:ext cx="1309680" cy="136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35344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Педагогические ситуации,  требующие  разрешения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4240" y="1142640"/>
            <a:ext cx="76932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944a"/>
                </a:solidFill>
                <a:latin typeface="Cambria"/>
              </a:rPr>
              <a:t>Ситуация  1. Вы пришли с работы усталая, а Ваша  дочь   устроила беспорядок в комнате,  на кухне и не собирается убирать за собо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Ваши действия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Из-за того, что ты здесь устроила,  завтра не пойдешь в кино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Б)  Я разрешу тебе  пойти на дискотеку, если ты сейчас же  наведешь порядок в комнате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В)  А я иду сегодня с работы усталая и думаю, как замечательно бы было, если бы ты прибралась в квартире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Г)  Давай уберем в комнате,  чтобы легко думалось, а потом обсудим, что будем делать в выходные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Д)  Я  знаю, что ты у нас быстрая на подъем, когда захочешь, все делаешь быстро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840" y="50004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Педагогические ситуации,  требующие  разрешения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8080" y="1214280"/>
            <a:ext cx="791064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944a"/>
                </a:solidFill>
                <a:latin typeface="Cambria"/>
              </a:rPr>
              <a:t>Ситуация  2. Ваш сын сидит за подготовкой домашнего задания  довольно продолжительное время, Вы заглядываете к нему в комнату и обнаруживаете, что он просто  «витает в облаках»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Cambria"/>
              </a:rPr>
              <a:t>Ваши действия</a:t>
            </a:r>
            <a:r>
              <a:rPr b="1" i="1" lang="ru-RU" sz="19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А)  Если ты будешь быстро и хорошо выполнять домашние задания, я буду давать тебе деньги на карманные расходы. Смотри, так ты много не заработаешь!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Б)  Учеба – твой долг. Если не будешь выполнять домашние задания, не сможешь окончить  школу и поступить в университет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В)  А ну-ка быстро за уроки!  Через полчаса приду и проверю, как ты справился!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Г)  Ну-ка попробуй сам распределить, сколько тебе нужно времени на математику, на русский язык, на устные  задания, а потом посмотрим. Сумеешь ли ты уложиться в это время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Д)  (удивленно) Как, час прошел,  а ты еще и  не начинал?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1" name="Picture 5" descr="Картинка 6 из 5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000760"/>
            <a:ext cx="1133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500040"/>
            <a:ext cx="8353440" cy="357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Педагогические ситуации,  требующие  разрешения</a:t>
            </a:r>
            <a:r>
              <a:rPr b="0" lang="ru-RU" sz="27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38080" y="1214280"/>
            <a:ext cx="76932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944a"/>
                </a:solidFill>
                <a:latin typeface="Cambria"/>
              </a:rPr>
              <a:t>Ситуация  3. Вы узнали, что Ваш сын проводит время с ребятами, которые гораздо старше его. Они не знают, чем заняться и просто слоняются повсюду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Ваши действия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А)  Я запрещаю тебе водить дружбу с этими ребятами! Они старше тебя и кто знает, что у них на уме!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Б)  Завтра ты встанешь в  6.30, потом я сама отведу тебя в школу, после занятий заберу тебя и будешь сидеть дома под моим присмотром!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В)  Ты уверен, что это твой круг общения и эти друзья будут нужны тебе в будущем?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Г)  Ты – общительный человек и сможешь подружиться с кем ты  захочешь и найти друзей,  с которыми можно интересно и полезно  проводить время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Д)  Ты уверен,  что эти друзья подходят тебе?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4" name="Picture 5" descr="155104"/>
          <p:cNvPicPr/>
          <p:nvPr/>
        </p:nvPicPr>
        <p:blipFill>
          <a:blip r:embed="rId1"/>
          <a:stretch/>
        </p:blipFill>
        <p:spPr>
          <a:xfrm>
            <a:off x="6715080" y="5286240"/>
            <a:ext cx="19796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9001080" cy="452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Педагогические ситуации,  требующие  разрешения 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38080" y="999720"/>
            <a:ext cx="7693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944a"/>
                </a:solidFill>
                <a:latin typeface="Cambria"/>
              </a:rPr>
              <a:t>Ситуация  4. Вы заметили, что Ваша дочь лжет:  говорит, что  на уроке ее не спрашивали, а домашние задания не задают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Ваши действия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А)  Если ты будешь  меня обманывать,  я буду каждый день  звонить твоим  одноклассникам и узнавать,  какие оценки ты получила. Пусть тебе будет стыдно!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Б)  Я требую, чтобы ты прекратила лгать!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В)  Я знаю, что ты искренний человек и хочу,  чтобы ты не боялась говорить мне правду, какой бы она ни была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Г)  Ты должна прекратить мне лгать, ведь  я все равно  узнаю правду. Люди тоже перестанут доверять и прекратят общаться с тобой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mbria"/>
              </a:rPr>
              <a:t>Д)  Сегодня слышала разговор детей из вашего класса. Сегодня все получили оценки. Я знаю, что задание  было сложным. Интересно, как ты справилась с ним?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7" name="Picture 5" descr="Картинка 8 из 287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5000760"/>
            <a:ext cx="9176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713916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96464"/>
                </a:solidFill>
                <a:latin typeface="Calibri"/>
              </a:rPr>
              <a:t>Итог: как помочь своему ребенку?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сё происходящее с ребенком не только нормально, но и закономерно. Главное для родителей– это понять и принять изменения, происходящие в ребенке, поддержать его как личность самостоятельную и индивидуальну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zoom dir="in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лассный руководитель:                                                    Раимова Насима Тагирзяновна                                             МБОУ Кучуковская СОШ Агрызского района РТ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://www.shkola-abv.ru/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Повестка собр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Мой ребенок становится трудным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Анализ мониторинговых работ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Разное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211960" cy="1357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96464"/>
                </a:solidFill>
                <a:latin typeface="Calibri"/>
              </a:rPr>
              <a:t>Сколько человеческого счастья разбилось вдребезги</a:t>
            </a:r>
            <a:br>
              <a:rPr sz="2000"/>
            </a:br>
            <a:r>
              <a:rPr b="0" i="1" lang="en-US" sz="2000" spc="-1" strike="noStrike">
                <a:solidFill>
                  <a:srgbClr val="696464"/>
                </a:solidFill>
                <a:latin typeface="Calibri"/>
              </a:rPr>
              <a:t>только потому, что кто-то кому-то не сказал: «Извини»?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696464"/>
                </a:solidFill>
                <a:latin typeface="Calibri"/>
              </a:rPr>
              <a:t>И.Д. Вильде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9288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Формировать у родителей культуру принятия трудностей, связанных с проблемами в воспитании их ребенк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Учить  родителей анализировать причины, которые стимулируют плохое поведение дете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Развивать умение поиска выхода в трудных ситуациях общения с такими детьм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Трудный ребенок. Какой он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4500720" y="350028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 rot="1347600">
            <a:off x="1491840" y="2923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ли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 rot="524400">
            <a:off x="6084360" y="4724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ир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 rot="20538600">
            <a:off x="5940720" y="37159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ач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 rot="20956200">
            <a:off x="5580000" y="2852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уверенный в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трудный ребенок"/>
          <p:cNvPicPr/>
          <p:nvPr/>
        </p:nvPicPr>
        <p:blipFill>
          <a:blip r:embed="rId1"/>
          <a:stretch/>
        </p:blipFill>
        <p:spPr>
          <a:xfrm>
            <a:off x="3851280" y="2852640"/>
            <a:ext cx="1749600" cy="2552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5"/>
          <p:cNvSpPr/>
          <p:nvPr/>
        </p:nvSpPr>
        <p:spPr>
          <a:xfrm rot="1340400">
            <a:off x="5363280" y="5589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амостоя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 rot="20786400">
            <a:off x="1332360" y="5373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ресс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 rot="916800">
            <a:off x="1907640" y="357300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рз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63528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ж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 rot="20856000">
            <a:off x="1619280" y="4652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н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    </a:t>
            </a: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При общении с детьми </a:t>
            </a:r>
            <a:r>
              <a:rPr b="0" i="1" lang="en-US" sz="3200" spc="-1" strike="noStrike" u="sng">
                <a:solidFill>
                  <a:srgbClr val="696464"/>
                </a:solidFill>
                <a:uFillTx/>
                <a:latin typeface="Calibri"/>
              </a:rPr>
              <a:t>не рекомендуется употреблять</a:t>
            </a: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 следующие выражения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57160" y="2643120"/>
            <a:ext cx="7572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тысячу раз говорил тебе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раз надо повторя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 чем ты только думаеш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жели тебе трудно запомнить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ы становишь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ы такой же, как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тань, некогда м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ему Лена (Вася, Настя и т. д.) такая, а ты н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Картинка 65 из 1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5229360"/>
            <a:ext cx="1833480" cy="143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428760" y="2357280"/>
            <a:ext cx="7643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ы у меня самый умный, (красивый и т. 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хорошо, что у меня есть 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ы у меня молод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тебя очень люб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хорошо ты это сделал, научи и меня эт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асибо тебе, я тебе очень благода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бы не ты, я бы никогда с этим не справ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ris5"/>
          <p:cNvPicPr/>
          <p:nvPr/>
        </p:nvPicPr>
        <p:blipFill>
          <a:blip r:embed="rId1"/>
          <a:stretch/>
        </p:blipFill>
        <p:spPr>
          <a:xfrm>
            <a:off x="6732720" y="4437000"/>
            <a:ext cx="2044440" cy="19288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2"/>
          <p:cNvSpPr/>
          <p:nvPr/>
        </p:nvSpPr>
        <p:spPr>
          <a:xfrm>
            <a:off x="900000" y="62064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общении с детьми 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екомендуется употребля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следующ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6300720" y="4797360"/>
            <a:ext cx="2448000" cy="18939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"/>
          <p:cNvSpPr/>
          <p:nvPr/>
        </p:nvSpPr>
        <p:spPr>
          <a:xfrm>
            <a:off x="357120" y="2286000"/>
            <a:ext cx="8572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езусловно, принимайте индивидуальность свое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Активно слушайте его, сочувствуйте, сопереживай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Как можно чаще бывайте с ним, занимайтесь, читайте, играйте, пишите друг другу письма и запи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е вмешивайтесь в его занятия, которые он может выполнить 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могайте, когда прос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ддерживайте и отмечайте усп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бегайте подчёркивания промахов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ассказывайте о своих проблемах, делитесь чув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азрешайте конфликты ми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збегайте дисциплинарных поощрений и наказ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Демонстрируйте оптим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900000" y="62064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ям желательно выполнять следующие простые 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ила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общении с дет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Мотивы появления трудных детей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Борьба за внимание родителе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Борьба за самоутверждени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Неверие в свой успе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Жажда мщения окружающему миру, взрослым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835280" y="2349360"/>
            <a:ext cx="5545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809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96464"/>
                </a:solidFill>
                <a:latin typeface="Calibri"/>
              </a:rPr>
              <a:t>                  </a:t>
            </a:r>
            <a:r>
              <a:rPr b="1" i="1" lang="ru-RU" sz="2400" spc="-1" strike="noStrike">
                <a:solidFill>
                  <a:srgbClr val="696464"/>
                </a:solidFill>
                <a:latin typeface="Calibri"/>
              </a:rPr>
              <a:t>Мотивы детской неуправляемости</a:t>
            </a:r>
            <a:br>
              <a:rPr sz="22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Мотив первый - борьба за внимание родителе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епослушание – это тоже возможность привлечь к себе внимание, заявить о себе. Внимание необходимо любому человеку для эмоционального благополучия, а тем более ребенку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Основа родительской помощи не какие-либо действия по изменению подростка, а открытое выражение своей любви к нему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Борьба за самоутверждение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Ребенок объявляет войну бесконечным указаниям, замечаниям и опасениям взрослых. Он ждет доверия к себе. Он хочет решать это сам, это заложено в его природе – нельзя прожить жизнь на опыте старших. Необходимо помнить, что ребенок стремящийся к самостоятельности не всегда можно её использовать умело. Родители должны способствовать развитию этого качества у детей. Необходимо записать права и обязанности подростка, уравновесить  и направить на формирование самостоятельности подростка во всех жизненных сферах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1:56:30Z</dcterms:created>
  <dc:creator>Учитель</dc:creator>
  <dc:description/>
  <dc:language>en-US</dc:language>
  <cp:lastModifiedBy>Борис</cp:lastModifiedBy>
  <dcterms:modified xsi:type="dcterms:W3CDTF">2015-02-06T19:13:56Z</dcterms:modified>
  <cp:revision>35</cp:revision>
  <dc:subject/>
  <dc:title>Родительское собрание «Мой ребенок становиться трудным»</dc:title>
</cp:coreProperties>
</file>